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B5CC-A2E9-49DC-85F9-FC24DD2C8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8C3-EB52-4C13-824E-840115CB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886D-BFA1-4326-98A4-DEE02FA2B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6A1D-BB6D-4C24-9091-996EF9705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F193-FCF5-40CF-AB16-2B9C9958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17F7-38DA-4121-B75E-CA34174E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90C63-E01A-43C4-8891-43C2DE7E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8345-56E2-41B4-B5AA-C2A5A8C8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D331-5958-4CF9-B873-C9192173A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A452-A783-4F2F-A8AE-6099B1A9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395B-FF89-4438-8D3F-45A2087B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A6F2-F28B-4714-B681-6DECEED0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F38A-DCCF-406B-8089-C3A1AF2A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80CB-6610-4D0C-9F08-38CB3AB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33D2F-370E-46E8-9232-2A7CCD457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413D-3738-4714-B684-042F3195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7B96-A8A4-44BD-B33D-539EFB0B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7E2F-24BB-4E76-B5B4-88D90819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23A3-2933-4A35-BBB6-19FF7A0E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8C0-126E-4814-A8F1-665B9E9E4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BF34-6C70-4E59-937B-81957A8E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7E9-8367-425E-8D2B-8FAE3E96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D43-6DCE-4242-9765-FA177AA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9378-7CC5-491C-B425-4D1A9464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1BB5-E770-4C06-A15D-A3A1021273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96B-1F57-4FEA-AA07-8202A5046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iki.answers.com/Q/How_many_Calories_burned_playing_volleyball#ixzz1OmokPAn8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itday.com/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in Taneytown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Will, Kane, Mason, Brooke, Savannah, Carver, Robert, D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760" y="3045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3612960"/>
            <a:ext cx="8540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that being said, and with all things being considered equal, a 160 lb person riding for 60 minutes at a speed of 12-14 mph would burn somewhere around 634 calories. Ride a little faster and you'll end up burning around 750 calories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Calories burned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at Roberts Mill Pa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oke, Savann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oberts Mill Park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erts Mill Park is one of the most beautiful serene parks in Taneytown. The Park sits on 19.3 acres of open lush green land. This Park also contains a pond that is fed by natural springs in the park. The pond is home to a variety of different animals and wildlife. Robert’s Mill Park contains something for everyone. Soccer/Lacrosse fields with lighting, full basketball court, fenced in playground (security for pond), sand volleyball court, three picnic pavilions, restrooms and parking. There is now a lighted walking trail around the pon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4520" y="6056280"/>
            <a:ext cx="51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berts Mill Park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501 Stumptown Road, Taneytown, Maryla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9061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occer…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epends on your weight and how hard you work during the game,. For example, if you are approximately 165lbs (75kg), for one hour you would burn about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25 calories - casual socce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calories - competitive socc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0200" y="6056280"/>
            <a:ext cx="50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cer is fun and it is a grate way to stay ac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Basketb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pefully this will help your cause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burn about 500 calories for every hour of full court 5 on 5 basketball you pl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57320" y="3693960"/>
            <a:ext cx="569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ketball is a good way to burn calories and have f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06720" y="4379760"/>
            <a:ext cx="361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ee carvers for more informa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olley bal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alorie needs depend on the intensity and duration of your training and competition, as well as your age, gender, height, and weight. A 130-pound volleyb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er uses about 8.4 calories per minute of vigorous volleyball play. A 180-pound athlete burns about 10.4 calories per minute of play.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our calorie needs depend on the intensity and duration of your training and competition, as well as your age, gender, height, and weight. A 130-pound volleyb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yer uses about 8.4 calories per minute of vigorous volleyball play. A 180-pound athlete burns about 10.4 calories per minute of play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6080" y="4913280"/>
            <a:ext cx="82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ley ball is a  fun sport to play with friends and family and a grate way to bur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o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4480" y="5675400"/>
            <a:ext cx="108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 more: </a:t>
            </a:r>
            <a:r>
              <a:rPr b="0" lang="en-US" sz="1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iki.answers.com/Q/How_many_Calories_burned_playing_volleyball#ixzz1OmokPAn8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Lacross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rosse is a fast moving spor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10 people from a team on the field at a time (20 people on the field total). There are 3 attackmen, 3 middies, 3 defensemen and 1 goali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23480" y="441972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26 a calories h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at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ould like to help the Taneytown Community stay fit by setting way points in Taneytown using Google earth and Google map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described the activities that you can do at the points in this presen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s get started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with bowl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: THUNDER HEAD BOWLING ALLE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: Kane &amp; Mas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994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How many calories you can burn bowling?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figure out how many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ori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you can burn while bowling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UNDER HEAD BOWLING ALLEY, by using fitday.co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’s an example. How many calories do you burn during Bowling based 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ight: 9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ight: 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: 18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ories Burned: 105 calori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fun and eas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doesn’t cost a whole lo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esident does it. Besides all of his interviews. He goes bowling on his free tim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fitday_logo" descr="FitDay.com - Free Online Weight Loss Journ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5257800"/>
            <a:ext cx="2743200" cy="743040"/>
          </a:xfrm>
          <a:prstGeom prst="rect">
            <a:avLst/>
          </a:prstGeom>
          <a:ln w="0">
            <a:noFill/>
          </a:ln>
        </p:spPr>
      </p:pic>
      <p:pic>
        <p:nvPicPr>
          <p:cNvPr id="92" name="barack-obama-in-bowling-shoes" descr=""/>
          <p:cNvPicPr/>
          <p:nvPr/>
        </p:nvPicPr>
        <p:blipFill>
          <a:blip r:embed="rId4">
            <a:lum bright="24000"/>
          </a:blip>
          <a:stretch/>
        </p:blipFill>
        <p:spPr>
          <a:xfrm>
            <a:off x="5029200" y="3679920"/>
            <a:ext cx="3695760" cy="2587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00" y="-720"/>
            <a:ext cx="1095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0" y="651600"/>
            <a:ext cx="7495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0" y="4542840"/>
            <a:ext cx="112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easons to go Bowl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He loves to bowl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should bowl too…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00" y="1429560"/>
            <a:ext cx="475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r>
              <a:rPr b="0" lang="en-US" sz="1300" spc="-1" strike="noStrike">
                <a:solidFill>
                  <a:srgbClr val="00007c"/>
                </a:solidFill>
                <a:latin typeface="Verdana"/>
                <a:ea typeface="Times New Roman"/>
              </a:rPr>
              <a:t>	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aa" descr=""/>
          <p:cNvPicPr/>
          <p:nvPr/>
        </p:nvPicPr>
        <p:blipFill>
          <a:blip r:embed="rId2"/>
          <a:stretch/>
        </p:blipFill>
        <p:spPr>
          <a:xfrm>
            <a:off x="2057400" y="2743200"/>
            <a:ext cx="5600880" cy="3676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1582280" y="1371600"/>
            <a:ext cx="9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Staying Fit bikin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cation: Passing Through Mayber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: Will &amp; D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30456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3352320"/>
            <a:ext cx="8540640" cy="27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’s an example. How many calories do you burn during biking based on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ight: 90 l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ight: 59 i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: 18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ories Burned: 186 calories per hou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2971800" cy="1958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048120" y="-380880"/>
            <a:ext cx="3047760" cy="2133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286680" y="-228600"/>
            <a:ext cx="2857320" cy="1771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133720" y="2735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905120"/>
            <a:ext cx="8994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How many calories you can burn biking in Taneytow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3612960"/>
            <a:ext cx="8540640" cy="24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ity calories burn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– leisure                     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biking – mountain      3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cycling 12-14 mph     3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cycling / cycling 14-16 mph     4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Calories Burned            1,44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83808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Calories Burned in 1 ho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666880"/>
            <a:ext cx="8534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also considered several styles of riding and we hope you enjoy the style that you enjoy the mo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9T13:14:53Z</dcterms:created>
  <dc:creator>40010911</dc:creator>
  <dc:description/>
  <dc:language>en-US</dc:language>
  <cp:lastModifiedBy>40012803</cp:lastModifiedBy>
  <dcterms:modified xsi:type="dcterms:W3CDTF">2011-06-09T18:11:06Z</dcterms:modified>
  <cp:revision>29</cp:revision>
  <dc:subject/>
  <dc:title>Staying fit with bowling</dc:title>
</cp:coreProperties>
</file>